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6.wmf" ContentType="image/x-wmf"/>
  <Override PartName="/ppt/media/image30.png" ContentType="image/png"/>
  <Override PartName="/ppt/media/image28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731-18F5-4A8C-A0E1-410D09EE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15E-7975-4584-A551-CD0991DA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4C6-9FA3-4DC8-8C62-645FF9D0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659-F6E1-44A8-84F6-162780CD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ABA0-9CD0-4FB8-8AEE-D830B1E2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9723-2816-4A1F-B18B-3A8BF627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A8F-7716-4937-A6C7-687A4F9F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55E4-1BD5-4528-B356-CC0ADB54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1198-630C-4671-9D89-756B0698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458-7E1C-42AA-A3B9-A8F4203B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579F-52E2-4F62-B7A0-E8D4B90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96D-9F7A-4603-873C-2C275807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FD5B-E236-47BD-B32D-342A9876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6D2B-33DE-40E9-9107-774E2EA0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482D-C92B-4580-A281-172A2509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577B-58B4-4526-83F4-FB70F586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251-7C77-497E-BB83-0BE274ED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10380-629C-4941-85F3-1E632D27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2952-7991-4CC9-B8C0-FC46AD5A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2C4A-1A36-4CBB-9DC0-ED47DF3E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83FE-7866-4F12-8598-B1C57B2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7D4F-9882-4AD5-BF13-481F4DBB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096-134F-49C6-BAB9-457758D1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4EAC-340C-428B-AFD2-8DC33315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B526-3C1D-46C5-97D9-C8A5076A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F88E-4929-47EB-A9A3-6CA5DDF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77E10-EB38-4045-999C-8AE7C762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A93F-FE2A-4975-9983-5070A5F7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0218-F040-4CD0-A9A4-89BF18B2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5923-40E7-40BD-A555-9F24D7F7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C4D9-31AC-45F9-95DF-0EF51DC6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DDC2-2758-48B0-9B2E-118EEF84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02AE-0B69-41A6-817D-4CF5379C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C64-1010-4CBB-A3A3-8037BBFA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6873-B3D9-4420-A543-C8F66CC7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C757-CC97-43FC-9007-DE463A04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97FC-523A-4C4D-A38D-3BDE1C90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2ACF-BE72-475F-BA87-F0026E9D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433C-7F94-43EA-BBC0-13B7226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9923-874A-4ECE-8CFB-A82514D8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9254C-8697-4E1B-9AA3-B3A56A05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5C2E-2743-4E81-A438-ADFDEE9B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39B5-7B30-4990-B735-A3E7FE7E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37C5-2A1E-4D81-85F3-EA761EBD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E8B-709C-4ED7-B802-169DD97F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C49D9-57DD-470D-A30C-C2716C1E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6C5A5-41AE-4E99-B61C-BFFB687B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3C4F-1495-46B5-936F-401AACE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FDA2C-2110-48B8-9E98-54A75BCB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3A413-3153-4649-B6FD-C16BA84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2D3B-B7CF-4318-B283-6144AC62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B954E-D91D-4572-918A-AC2DEA9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5C7A-7CF2-4AE1-98FC-32D8FAA2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DF0D4-B08A-4248-8301-F2F87F60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1FBA-F3CF-4362-92F9-00D3EE0A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503-4C3D-46F7-BE7D-01D6CE05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6732E-EE79-454E-AFB2-A18233A9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FCF34-7380-4664-8CA2-3C9BAFB0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F0509-A3A0-4416-B46C-0A2956B3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915F-9B93-462F-B00B-6A8ACCD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BADB-5205-4A3E-966D-8B675AF9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02510-7225-44B5-AB46-A441599D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8B20C-1735-4E38-8961-63845145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6387-A2EB-4F26-99FC-8F809DBD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5FCB-ADBD-44C1-B9CE-C6391876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9BFB5-9E16-448D-B5F0-C3BC710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872-7B7C-4919-B0D4-F852EDB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AE107-E0BA-48A6-88B8-A821C5FC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AE74F-978A-4BDB-938D-3D2B4E4D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64A44-9FF0-41D3-88CA-3C80E077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B469A-41FC-42C8-AB2F-57ACC93B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D9ED9-8401-4686-80BA-15DE2623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0E041-5AD5-42D4-891F-BD2256A1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EC3E-F016-4B54-8651-DC476372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CFCFE-84C4-42CF-B31B-7E0D0A40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D3697-AE53-4585-BA68-22FE6CF7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3EF5-084F-43D8-BD48-5E8646FE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915-03D2-4E12-BE4E-B5BFF7A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A1C73-E44E-40C9-8779-7AC25807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EE40-A611-4929-8EEC-BDDF4A0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7BF3F-9F6B-4F9A-93EF-53AADFDA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FF575-CEFB-499B-9BAC-DD749513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25E07-CAF1-4D0B-BA65-97B9AC3B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9A0-4A28-4067-97CB-124F995E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B56-F838-42D2-9D37-12C3CEE5C26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F766-818A-4FBE-BCAC-4D7BF03789D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4C1A-ABED-460E-95C5-EDFF3FB382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BBB5-2A19-4196-8742-7D4F6043DCD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C536-787B-4497-87E9-2DE9204A5D1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B7D-F1AB-4BF1-AE13-504096DE70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9D49-945F-446F-8BEF-E7A6A9C30E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image" Target="../media/image35.png"/><Relationship Id="rId33" Type="http://schemas.openxmlformats.org/officeDocument/2006/relationships/image" Target="../media/image36.png"/><Relationship Id="rId3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Прямоугольник с двумя скругленными противолежащими углами 4"/>
          <p:cNvGrpSpPr/>
          <p:nvPr/>
        </p:nvGrpSpPr>
        <p:grpSpPr>
          <a:xfrm>
            <a:off x="695160" y="208080"/>
            <a:ext cx="8223480" cy="730080"/>
            <a:chOff x="695160" y="208080"/>
            <a:chExt cx="8223480" cy="730080"/>
          </a:xfrm>
        </p:grpSpPr>
        <p:pic>
          <p:nvPicPr>
            <p:cNvPr id="319" name="Прямоугольник с двумя скругле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695160" y="208080"/>
              <a:ext cx="82234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9880" y="325440"/>
              <a:ext cx="7935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Участники бюджетного процесса в городе Омске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aphicFrame>
        <p:nvGraphicFramePr>
          <p:cNvPr id="321" name="Object 41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6"/>
          <p:cNvSpPr/>
          <p:nvPr/>
        </p:nvSpPr>
        <p:spPr>
          <a:xfrm>
            <a:off x="928800" y="0"/>
            <a:ext cx="37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8"/>
          <p:cNvSpPr/>
          <p:nvPr/>
        </p:nvSpPr>
        <p:spPr>
          <a:xfrm>
            <a:off x="4651200" y="787320"/>
            <a:ext cx="0" cy="74304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Прямая соединительная линия 12" descr=""/>
          <p:cNvPicPr/>
          <p:nvPr/>
        </p:nvPicPr>
        <p:blipFill>
          <a:blip r:embed="rId4"/>
          <a:stretch/>
        </p:blipFill>
        <p:spPr>
          <a:xfrm>
            <a:off x="1139760" y="884160"/>
            <a:ext cx="7053480" cy="4932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ая соединительная линия 15"/>
          <p:cNvSpPr/>
          <p:nvPr/>
        </p:nvSpPr>
        <p:spPr>
          <a:xfrm flipH="1">
            <a:off x="1158480" y="925560"/>
            <a:ext cx="3240" cy="12852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16"/>
          <p:cNvSpPr/>
          <p:nvPr/>
        </p:nvSpPr>
        <p:spPr>
          <a:xfrm>
            <a:off x="8180280" y="901800"/>
            <a:ext cx="0" cy="12996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8" name="Прямоугольник с двумя скругленными противолежащими углами 17"/>
          <p:cNvGrpSpPr/>
          <p:nvPr/>
        </p:nvGrpSpPr>
        <p:grpSpPr>
          <a:xfrm>
            <a:off x="165240" y="950760"/>
            <a:ext cx="2170080" cy="665280"/>
            <a:chOff x="165240" y="950760"/>
            <a:chExt cx="2170080" cy="665280"/>
          </a:xfrm>
        </p:grpSpPr>
        <p:pic>
          <p:nvPicPr>
            <p:cNvPr id="329" name="Прямоугольник с двумя скругленными противолежащими углами 17" descr=""/>
            <p:cNvPicPr/>
            <p:nvPr/>
          </p:nvPicPr>
          <p:blipFill>
            <a:blip r:embed="rId5"/>
            <a:stretch/>
          </p:blipFill>
          <p:spPr>
            <a:xfrm>
              <a:off x="165240" y="950760"/>
              <a:ext cx="2170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98440" y="1063800"/>
              <a:ext cx="19033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Администрация</a:t>
              </a:r>
              <a:r>
                <a:rPr b="1" lang="ru-RU" sz="15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города Омска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31" name="Прямоугольник с двумя скругленными противолежащими углами 18"/>
          <p:cNvGrpSpPr/>
          <p:nvPr/>
        </p:nvGrpSpPr>
        <p:grpSpPr>
          <a:xfrm>
            <a:off x="2395440" y="933480"/>
            <a:ext cx="2176560" cy="663480"/>
            <a:chOff x="2395440" y="933480"/>
            <a:chExt cx="2176560" cy="663480"/>
          </a:xfrm>
        </p:grpSpPr>
        <p:pic>
          <p:nvPicPr>
            <p:cNvPr id="332" name="Прямоугольник с двумя скругленными противолежащими углами 18" descr=""/>
            <p:cNvPicPr/>
            <p:nvPr/>
          </p:nvPicPr>
          <p:blipFill>
            <a:blip r:embed="rId6"/>
            <a:stretch/>
          </p:blipFill>
          <p:spPr>
            <a:xfrm>
              <a:off x="2395440" y="933480"/>
              <a:ext cx="217656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530440" y="1046160"/>
              <a:ext cx="19033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Мэр города Омска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34" name="Прямоугольник с двумя скругленными противолежащими углами 19"/>
          <p:cNvGrpSpPr/>
          <p:nvPr/>
        </p:nvGrpSpPr>
        <p:grpSpPr>
          <a:xfrm>
            <a:off x="7016760" y="950760"/>
            <a:ext cx="2170080" cy="665280"/>
            <a:chOff x="7016760" y="950760"/>
            <a:chExt cx="2170080" cy="665280"/>
          </a:xfrm>
        </p:grpSpPr>
        <p:pic>
          <p:nvPicPr>
            <p:cNvPr id="335" name="Прямоугольник с двумя скругленными противолежащими углами 19" descr=""/>
            <p:cNvPicPr/>
            <p:nvPr/>
          </p:nvPicPr>
          <p:blipFill>
            <a:blip r:embed="rId7"/>
            <a:stretch/>
          </p:blipFill>
          <p:spPr>
            <a:xfrm>
              <a:off x="7016760" y="950760"/>
              <a:ext cx="2170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7151760" y="1063800"/>
              <a:ext cx="1901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Контрольно-счетная палата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37" name="Прямоугольник с двумя скругленными противолежащими углами 21"/>
          <p:cNvGrpSpPr/>
          <p:nvPr/>
        </p:nvGrpSpPr>
        <p:grpSpPr>
          <a:xfrm>
            <a:off x="4803840" y="927000"/>
            <a:ext cx="2176560" cy="657360"/>
            <a:chOff x="4803840" y="927000"/>
            <a:chExt cx="2176560" cy="657360"/>
          </a:xfrm>
        </p:grpSpPr>
        <p:pic>
          <p:nvPicPr>
            <p:cNvPr id="338" name="Прямоугольник с двумя скругленными противолежащими углами 21" descr=""/>
            <p:cNvPicPr/>
            <p:nvPr/>
          </p:nvPicPr>
          <p:blipFill>
            <a:blip r:embed="rId8"/>
            <a:stretch/>
          </p:blipFill>
          <p:spPr>
            <a:xfrm>
              <a:off x="4803840" y="927000"/>
              <a:ext cx="21765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941720" y="1035000"/>
              <a:ext cx="1901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Омский городской Совет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40" name="Прямая соединительная линия 23" descr=""/>
          <p:cNvPicPr/>
          <p:nvPr/>
        </p:nvPicPr>
        <p:blipFill>
          <a:blip r:embed="rId9"/>
          <a:stretch/>
        </p:blipFill>
        <p:spPr>
          <a:xfrm>
            <a:off x="1974960" y="1504800"/>
            <a:ext cx="4822560" cy="49320"/>
          </a:xfrm>
          <a:prstGeom prst="rect">
            <a:avLst/>
          </a:prstGeom>
          <a:ln w="0">
            <a:noFill/>
          </a:ln>
        </p:spPr>
      </p:pic>
      <p:grpSp>
        <p:nvGrpSpPr>
          <p:cNvPr id="341" name="Прямоугольник с двумя скругленными противолежащими углами 34"/>
          <p:cNvGrpSpPr/>
          <p:nvPr/>
        </p:nvGrpSpPr>
        <p:grpSpPr>
          <a:xfrm>
            <a:off x="171360" y="1511280"/>
            <a:ext cx="3589560" cy="738360"/>
            <a:chOff x="171360" y="1511280"/>
            <a:chExt cx="3589560" cy="738360"/>
          </a:xfrm>
        </p:grpSpPr>
        <p:pic>
          <p:nvPicPr>
            <p:cNvPr id="342" name="Прямоугольник с двумя скругленными противолежащими углами 34" descr=""/>
            <p:cNvPicPr/>
            <p:nvPr/>
          </p:nvPicPr>
          <p:blipFill>
            <a:blip r:embed="rId10"/>
            <a:stretch/>
          </p:blipFill>
          <p:spPr>
            <a:xfrm>
              <a:off x="171360" y="1511280"/>
              <a:ext cx="35895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12840" y="1631880"/>
              <a:ext cx="33004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Департамент финансов и контроля Администрации города Омска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44" name="Прямоугольник с двумя скругленными противолежащими углами 36"/>
          <p:cNvGrpSpPr/>
          <p:nvPr/>
        </p:nvGrpSpPr>
        <p:grpSpPr>
          <a:xfrm>
            <a:off x="5041800" y="1547640"/>
            <a:ext cx="3456000" cy="738360"/>
            <a:chOff x="5041800" y="1547640"/>
            <a:chExt cx="3456000" cy="738360"/>
          </a:xfrm>
        </p:grpSpPr>
        <p:pic>
          <p:nvPicPr>
            <p:cNvPr id="345" name="Прямоугольник с двумя скругленными противолежащими углами 36" descr=""/>
            <p:cNvPicPr/>
            <p:nvPr/>
          </p:nvPicPr>
          <p:blipFill>
            <a:blip r:embed="rId11"/>
            <a:stretch/>
          </p:blipFill>
          <p:spPr>
            <a:xfrm>
              <a:off x="5041800" y="1547640"/>
              <a:ext cx="34560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184720" y="1666800"/>
              <a:ext cx="31672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</a:rPr>
                <a:t>Главные распорядители средств бюджета города Омска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47" name="Прямая соединительная линия 45" descr=""/>
          <p:cNvPicPr/>
          <p:nvPr/>
        </p:nvPicPr>
        <p:blipFill>
          <a:blip r:embed="rId12"/>
          <a:stretch/>
        </p:blipFill>
        <p:spPr>
          <a:xfrm>
            <a:off x="66600" y="2212920"/>
            <a:ext cx="6730920" cy="4932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ая соединительная линия 46"/>
          <p:cNvSpPr/>
          <p:nvPr/>
        </p:nvSpPr>
        <p:spPr>
          <a:xfrm>
            <a:off x="6781680" y="2146320"/>
            <a:ext cx="0" cy="9360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Прямая соединительная линия 47"/>
          <p:cNvSpPr/>
          <p:nvPr/>
        </p:nvSpPr>
        <p:spPr>
          <a:xfrm>
            <a:off x="6786720" y="1530360"/>
            <a:ext cx="0" cy="14112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ая соединительная линия 48"/>
          <p:cNvSpPr/>
          <p:nvPr/>
        </p:nvSpPr>
        <p:spPr>
          <a:xfrm>
            <a:off x="1996920" y="1530360"/>
            <a:ext cx="0" cy="10476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1" name="Прямоугольник с двумя скругленными противолежащими углами 49"/>
          <p:cNvGrpSpPr/>
          <p:nvPr/>
        </p:nvGrpSpPr>
        <p:grpSpPr>
          <a:xfrm>
            <a:off x="96840" y="2206800"/>
            <a:ext cx="2103480" cy="974520"/>
            <a:chOff x="96840" y="2206800"/>
            <a:chExt cx="2103480" cy="974520"/>
          </a:xfrm>
        </p:grpSpPr>
        <p:pic>
          <p:nvPicPr>
            <p:cNvPr id="352" name="Прямоугольник с двумя скругленными противолежащими углами 49" descr=""/>
            <p:cNvPicPr/>
            <p:nvPr/>
          </p:nvPicPr>
          <p:blipFill>
            <a:blip r:embed="rId13"/>
            <a:stretch/>
          </p:blipFill>
          <p:spPr>
            <a:xfrm>
              <a:off x="96840" y="2206800"/>
              <a:ext cx="21034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68200" y="2352600"/>
              <a:ext cx="17636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Администрация Кировского административного округ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54" name="Прямая соединительная линия 50"/>
          <p:cNvSpPr/>
          <p:nvPr/>
        </p:nvSpPr>
        <p:spPr>
          <a:xfrm>
            <a:off x="92160" y="2244600"/>
            <a:ext cx="0" cy="350208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5" name="Прямоугольник с двумя скругленными противолежащими углами 51"/>
          <p:cNvGrpSpPr/>
          <p:nvPr/>
        </p:nvGrpSpPr>
        <p:grpSpPr>
          <a:xfrm>
            <a:off x="96840" y="2987640"/>
            <a:ext cx="2103480" cy="944640"/>
            <a:chOff x="96840" y="2987640"/>
            <a:chExt cx="2103480" cy="944640"/>
          </a:xfrm>
        </p:grpSpPr>
        <p:pic>
          <p:nvPicPr>
            <p:cNvPr id="356" name="Прямоугольник с двумя скругленными противолежащими углами 51" descr=""/>
            <p:cNvPicPr/>
            <p:nvPr/>
          </p:nvPicPr>
          <p:blipFill>
            <a:blip r:embed="rId14"/>
            <a:stretch/>
          </p:blipFill>
          <p:spPr>
            <a:xfrm>
              <a:off x="96840" y="2987640"/>
              <a:ext cx="210348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68200" y="3130560"/>
              <a:ext cx="17668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Администрация Ленинского административного округ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58" name="Прямоугольник с двумя скругленными противолежащими углами 52"/>
          <p:cNvGrpSpPr/>
          <p:nvPr/>
        </p:nvGrpSpPr>
        <p:grpSpPr>
          <a:xfrm>
            <a:off x="122400" y="3840120"/>
            <a:ext cx="2077920" cy="976320"/>
            <a:chOff x="122400" y="3840120"/>
            <a:chExt cx="2077920" cy="976320"/>
          </a:xfrm>
        </p:grpSpPr>
        <p:pic>
          <p:nvPicPr>
            <p:cNvPr id="359" name="Прямоугольник с двумя скругленными противолежащими углами 52" descr=""/>
            <p:cNvPicPr/>
            <p:nvPr/>
          </p:nvPicPr>
          <p:blipFill>
            <a:blip r:embed="rId15"/>
            <a:stretch/>
          </p:blipFill>
          <p:spPr>
            <a:xfrm>
              <a:off x="122400" y="3840120"/>
              <a:ext cx="20779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90520" y="3987720"/>
              <a:ext cx="17413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Администрация Октябрьского административного округ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61" name="Прямоугольник с двумя скругленными противолежащими углами 53"/>
          <p:cNvGrpSpPr/>
          <p:nvPr/>
        </p:nvGrpSpPr>
        <p:grpSpPr>
          <a:xfrm>
            <a:off x="122400" y="4657680"/>
            <a:ext cx="2077920" cy="981000"/>
            <a:chOff x="122400" y="4657680"/>
            <a:chExt cx="2077920" cy="981000"/>
          </a:xfrm>
        </p:grpSpPr>
        <p:pic>
          <p:nvPicPr>
            <p:cNvPr id="362" name="Прямоугольник с двумя скругленными противолежащими углами 53" descr=""/>
            <p:cNvPicPr/>
            <p:nvPr/>
          </p:nvPicPr>
          <p:blipFill>
            <a:blip r:embed="rId16"/>
            <a:stretch/>
          </p:blipFill>
          <p:spPr>
            <a:xfrm>
              <a:off x="122400" y="4657680"/>
              <a:ext cx="2077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293760" y="4805280"/>
              <a:ext cx="1738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Администрация Советского административного округ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64" name="Прямоугольник с двумя скругленными противолежащими углами 55"/>
          <p:cNvGrpSpPr/>
          <p:nvPr/>
        </p:nvGrpSpPr>
        <p:grpSpPr>
          <a:xfrm>
            <a:off x="96840" y="5450040"/>
            <a:ext cx="2103480" cy="981000"/>
            <a:chOff x="96840" y="5450040"/>
            <a:chExt cx="2103480" cy="981000"/>
          </a:xfrm>
        </p:grpSpPr>
        <p:pic>
          <p:nvPicPr>
            <p:cNvPr id="365" name="Прямоугольник с двумя скругленными противолежащими углами 55" descr=""/>
            <p:cNvPicPr/>
            <p:nvPr/>
          </p:nvPicPr>
          <p:blipFill>
            <a:blip r:embed="rId17"/>
            <a:stretch/>
          </p:blipFill>
          <p:spPr>
            <a:xfrm>
              <a:off x="96840" y="5450040"/>
              <a:ext cx="21034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68200" y="5599080"/>
              <a:ext cx="17636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Администрация Центрального административного округ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67" name="Прямая соединительная линия 56"/>
          <p:cNvSpPr/>
          <p:nvPr/>
        </p:nvSpPr>
        <p:spPr>
          <a:xfrm>
            <a:off x="3481560" y="905040"/>
            <a:ext cx="1440" cy="12996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57"/>
          <p:cNvSpPr/>
          <p:nvPr/>
        </p:nvSpPr>
        <p:spPr>
          <a:xfrm>
            <a:off x="5872320" y="907920"/>
            <a:ext cx="0" cy="13032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9" name="Прямоугольник с двумя скругленными противолежащими углами 67"/>
          <p:cNvGrpSpPr/>
          <p:nvPr/>
        </p:nvGrpSpPr>
        <p:grpSpPr>
          <a:xfrm>
            <a:off x="4280040" y="5851440"/>
            <a:ext cx="1962000" cy="1092240"/>
            <a:chOff x="4280040" y="5851440"/>
            <a:chExt cx="1962000" cy="1092240"/>
          </a:xfrm>
        </p:grpSpPr>
        <p:pic>
          <p:nvPicPr>
            <p:cNvPr id="370" name="Прямоугольник с двумя скругленными противолежащими углами 67" descr=""/>
            <p:cNvPicPr/>
            <p:nvPr/>
          </p:nvPicPr>
          <p:blipFill>
            <a:blip r:embed="rId18"/>
            <a:stretch/>
          </p:blipFill>
          <p:spPr>
            <a:xfrm>
              <a:off x="4280040" y="5851440"/>
              <a:ext cx="19620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464000" y="6013440"/>
              <a:ext cx="1594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городского хозяйства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72" name="Прямоугольник с двумя скругленными противолежащими углами 68"/>
          <p:cNvGrpSpPr/>
          <p:nvPr/>
        </p:nvGrpSpPr>
        <p:grpSpPr>
          <a:xfrm>
            <a:off x="2219400" y="2219400"/>
            <a:ext cx="2084400" cy="1170000"/>
            <a:chOff x="2219400" y="2219400"/>
            <a:chExt cx="2084400" cy="1170000"/>
          </a:xfrm>
        </p:grpSpPr>
        <p:pic>
          <p:nvPicPr>
            <p:cNvPr id="373" name="Прямоугольник с двумя скругленными противолежащими углами 68" descr=""/>
            <p:cNvPicPr/>
            <p:nvPr/>
          </p:nvPicPr>
          <p:blipFill>
            <a:blip r:embed="rId19"/>
            <a:stretch/>
          </p:blipFill>
          <p:spPr>
            <a:xfrm>
              <a:off x="2219400" y="2219400"/>
              <a:ext cx="20844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413080" y="2387520"/>
              <a:ext cx="16952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архитектуры и градостроительства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75" name="Прямоугольник с двумя скругленными противолежащими углами 69"/>
          <p:cNvGrpSpPr/>
          <p:nvPr/>
        </p:nvGrpSpPr>
        <p:grpSpPr>
          <a:xfrm>
            <a:off x="2219400" y="3193920"/>
            <a:ext cx="2054160" cy="1225800"/>
            <a:chOff x="2219400" y="3193920"/>
            <a:chExt cx="2054160" cy="1225800"/>
          </a:xfrm>
        </p:grpSpPr>
        <p:pic>
          <p:nvPicPr>
            <p:cNvPr id="376" name="Прямоугольник с двумя скругленными противолежащими углами 69" descr=""/>
            <p:cNvPicPr/>
            <p:nvPr/>
          </p:nvPicPr>
          <p:blipFill>
            <a:blip r:embed="rId20"/>
            <a:stretch/>
          </p:blipFill>
          <p:spPr>
            <a:xfrm>
              <a:off x="2219400" y="3193920"/>
              <a:ext cx="20541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419200" y="3370320"/>
              <a:ext cx="16574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имущественных отношений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78" name="Прямоугольник с двумя скругленными противолежащими углами 70"/>
          <p:cNvGrpSpPr/>
          <p:nvPr/>
        </p:nvGrpSpPr>
        <p:grpSpPr>
          <a:xfrm>
            <a:off x="2236680" y="4260960"/>
            <a:ext cx="1987560" cy="1158840"/>
            <a:chOff x="2236680" y="4260960"/>
            <a:chExt cx="1987560" cy="1158840"/>
          </a:xfrm>
        </p:grpSpPr>
        <p:pic>
          <p:nvPicPr>
            <p:cNvPr id="379" name="Прямоугольник с двумя скругленными противолежащими углами 70" descr=""/>
            <p:cNvPicPr/>
            <p:nvPr/>
          </p:nvPicPr>
          <p:blipFill>
            <a:blip r:embed="rId21"/>
            <a:stretch/>
          </p:blipFill>
          <p:spPr>
            <a:xfrm>
              <a:off x="2236680" y="4260960"/>
              <a:ext cx="1987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430360" y="4425840"/>
              <a:ext cx="16052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жилищной политики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81" name="Прямоугольник с двумя скругленными противолежащими углами 71"/>
          <p:cNvGrpSpPr/>
          <p:nvPr/>
        </p:nvGrpSpPr>
        <p:grpSpPr>
          <a:xfrm>
            <a:off x="2236680" y="5284800"/>
            <a:ext cx="1987560" cy="976320"/>
            <a:chOff x="2236680" y="5284800"/>
            <a:chExt cx="1987560" cy="976320"/>
          </a:xfrm>
        </p:grpSpPr>
        <p:pic>
          <p:nvPicPr>
            <p:cNvPr id="382" name="Прямоугольник с двумя скругленными противолежащими углами 71" descr=""/>
            <p:cNvPicPr/>
            <p:nvPr/>
          </p:nvPicPr>
          <p:blipFill>
            <a:blip r:embed="rId22"/>
            <a:stretch/>
          </p:blipFill>
          <p:spPr>
            <a:xfrm>
              <a:off x="2236680" y="5284800"/>
              <a:ext cx="19875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411280" y="5429160"/>
              <a:ext cx="16448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образования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84" name="Прямоугольник с двумя скругленными противолежащими углами 72"/>
          <p:cNvGrpSpPr/>
          <p:nvPr/>
        </p:nvGrpSpPr>
        <p:grpSpPr>
          <a:xfrm>
            <a:off x="4309920" y="2225520"/>
            <a:ext cx="1974960" cy="981360"/>
            <a:chOff x="4309920" y="2225520"/>
            <a:chExt cx="1974960" cy="981360"/>
          </a:xfrm>
        </p:grpSpPr>
        <p:pic>
          <p:nvPicPr>
            <p:cNvPr id="385" name="Прямоугольник с двумя скругленными противолежащими углами 72" descr=""/>
            <p:cNvPicPr/>
            <p:nvPr/>
          </p:nvPicPr>
          <p:blipFill>
            <a:blip r:embed="rId23"/>
            <a:stretch/>
          </p:blipFill>
          <p:spPr>
            <a:xfrm>
              <a:off x="4309920" y="2225520"/>
              <a:ext cx="19749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481640" y="2374920"/>
              <a:ext cx="16333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культуры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87" name="Прямоугольник с двумя скругленными противолежащими углами 73"/>
          <p:cNvGrpSpPr/>
          <p:nvPr/>
        </p:nvGrpSpPr>
        <p:grpSpPr>
          <a:xfrm>
            <a:off x="6229440" y="2219400"/>
            <a:ext cx="2884320" cy="1004760"/>
            <a:chOff x="6229440" y="2219400"/>
            <a:chExt cx="2884320" cy="1004760"/>
          </a:xfrm>
        </p:grpSpPr>
        <p:pic>
          <p:nvPicPr>
            <p:cNvPr id="388" name="Прямоугольник с двумя скругленными противолежащими углами 73" descr=""/>
            <p:cNvPicPr/>
            <p:nvPr/>
          </p:nvPicPr>
          <p:blipFill>
            <a:blip r:embed="rId24"/>
            <a:stretch/>
          </p:blipFill>
          <p:spPr>
            <a:xfrm>
              <a:off x="6229440" y="2219400"/>
              <a:ext cx="28843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405480" y="2368440"/>
              <a:ext cx="2535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по делам молодежи, физической культуры и спорта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90" name="Прямоугольник с двумя скругленными противолежащими углами 35"/>
          <p:cNvGrpSpPr/>
          <p:nvPr/>
        </p:nvGrpSpPr>
        <p:grpSpPr>
          <a:xfrm>
            <a:off x="4248000" y="3067200"/>
            <a:ext cx="2006640" cy="1212840"/>
            <a:chOff x="4248000" y="3067200"/>
            <a:chExt cx="2006640" cy="1212840"/>
          </a:xfrm>
        </p:grpSpPr>
        <p:pic>
          <p:nvPicPr>
            <p:cNvPr id="391" name="Прямоугольник с двумя скругленными противолежащими углами 35" descr=""/>
            <p:cNvPicPr/>
            <p:nvPr/>
          </p:nvPicPr>
          <p:blipFill>
            <a:blip r:embed="rId25"/>
            <a:stretch/>
          </p:blipFill>
          <p:spPr>
            <a:xfrm>
              <a:off x="4248000" y="3067200"/>
              <a:ext cx="20066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448160" y="3238560"/>
              <a:ext cx="16099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финансов и контроля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93" name="Прямоугольник с двумя скругленными противолежащими углами 37"/>
          <p:cNvGrpSpPr/>
          <p:nvPr/>
        </p:nvGrpSpPr>
        <p:grpSpPr>
          <a:xfrm>
            <a:off x="4267080" y="4211640"/>
            <a:ext cx="1974960" cy="976320"/>
            <a:chOff x="4267080" y="4211640"/>
            <a:chExt cx="1974960" cy="976320"/>
          </a:xfrm>
        </p:grpSpPr>
        <p:pic>
          <p:nvPicPr>
            <p:cNvPr id="394" name="Прямоугольник с двумя скругленными противолежащими углами 37" descr=""/>
            <p:cNvPicPr/>
            <p:nvPr/>
          </p:nvPicPr>
          <p:blipFill>
            <a:blip r:embed="rId26"/>
            <a:stretch/>
          </p:blipFill>
          <p:spPr>
            <a:xfrm>
              <a:off x="4267080" y="4211640"/>
              <a:ext cx="19749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438800" y="4359240"/>
              <a:ext cx="16318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Управление делами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96" name="Прямоугольник с двумя скругленными противолежащими углами 38"/>
          <p:cNvGrpSpPr/>
          <p:nvPr/>
        </p:nvGrpSpPr>
        <p:grpSpPr>
          <a:xfrm>
            <a:off x="4248000" y="5052960"/>
            <a:ext cx="2013120" cy="982800"/>
            <a:chOff x="4248000" y="5052960"/>
            <a:chExt cx="2013120" cy="982800"/>
          </a:xfrm>
        </p:grpSpPr>
        <p:pic>
          <p:nvPicPr>
            <p:cNvPr id="397" name="Прямоугольник с двумя скругленными противолежащими углами 38" descr=""/>
            <p:cNvPicPr/>
            <p:nvPr/>
          </p:nvPicPr>
          <p:blipFill>
            <a:blip r:embed="rId27"/>
            <a:stretch/>
          </p:blipFill>
          <p:spPr>
            <a:xfrm>
              <a:off x="4248000" y="5052960"/>
              <a:ext cx="201312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421160" y="5202360"/>
              <a:ext cx="16668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строительства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99" name="Прямоугольник с двумя скругленными противолежащими углами 39"/>
          <p:cNvGrpSpPr/>
          <p:nvPr/>
        </p:nvGrpSpPr>
        <p:grpSpPr>
          <a:xfrm>
            <a:off x="2236680" y="6046920"/>
            <a:ext cx="1957320" cy="896760"/>
            <a:chOff x="2236680" y="6046920"/>
            <a:chExt cx="1957320" cy="896760"/>
          </a:xfrm>
        </p:grpSpPr>
        <p:pic>
          <p:nvPicPr>
            <p:cNvPr id="400" name="Прямоугольник с двумя скругленными противолежащими углами 39" descr=""/>
            <p:cNvPicPr/>
            <p:nvPr/>
          </p:nvPicPr>
          <p:blipFill>
            <a:blip r:embed="rId28"/>
            <a:stretch/>
          </p:blipFill>
          <p:spPr>
            <a:xfrm>
              <a:off x="2236680" y="6046920"/>
              <a:ext cx="19573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2398680" y="6197760"/>
              <a:ext cx="16383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транспорта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02" name="Прямоугольник с двумя скругленными противолежащими углами 40"/>
          <p:cNvGrpSpPr/>
          <p:nvPr/>
        </p:nvGrpSpPr>
        <p:grpSpPr>
          <a:xfrm>
            <a:off x="6229440" y="3956040"/>
            <a:ext cx="2884320" cy="1092240"/>
            <a:chOff x="6229440" y="3956040"/>
            <a:chExt cx="2884320" cy="1092240"/>
          </a:xfrm>
        </p:grpSpPr>
        <p:pic>
          <p:nvPicPr>
            <p:cNvPr id="403" name="Прямоугольник с двумя скругленными противолежащими углами 40" descr=""/>
            <p:cNvPicPr/>
            <p:nvPr/>
          </p:nvPicPr>
          <p:blipFill>
            <a:blip r:embed="rId29"/>
            <a:stretch/>
          </p:blipFill>
          <p:spPr>
            <a:xfrm>
              <a:off x="6229440" y="3956040"/>
              <a:ext cx="288432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11960" y="4116240"/>
              <a:ext cx="25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Департамент общественных отношений и социальной политики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05" name="Прямоугольник с двумя скругленными противолежащими углами 41"/>
          <p:cNvGrpSpPr/>
          <p:nvPr/>
        </p:nvGrpSpPr>
        <p:grpSpPr>
          <a:xfrm>
            <a:off x="6254640" y="3108240"/>
            <a:ext cx="2859120" cy="933480"/>
            <a:chOff x="6254640" y="3108240"/>
            <a:chExt cx="2859120" cy="933480"/>
          </a:xfrm>
        </p:grpSpPr>
        <p:pic>
          <p:nvPicPr>
            <p:cNvPr id="406" name="Прямоугольник с двумя скругленными противолежащими углами 41" descr=""/>
            <p:cNvPicPr/>
            <p:nvPr/>
          </p:nvPicPr>
          <p:blipFill>
            <a:blip r:embed="rId30"/>
            <a:stretch/>
          </p:blipFill>
          <p:spPr>
            <a:xfrm>
              <a:off x="6254640" y="3108240"/>
              <a:ext cx="28591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6421320" y="3249720"/>
              <a:ext cx="25275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Управление муниципального заказа и организации торгов Администраци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08" name="Прямая соединительная линия 13"/>
          <p:cNvSpPr/>
          <p:nvPr/>
        </p:nvSpPr>
        <p:spPr>
          <a:xfrm>
            <a:off x="77760" y="2513160"/>
            <a:ext cx="16344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Прямая соединительная линия 54"/>
          <p:cNvSpPr/>
          <p:nvPr/>
        </p:nvSpPr>
        <p:spPr>
          <a:xfrm>
            <a:off x="88920" y="3346560"/>
            <a:ext cx="14904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Прямая соединительная линия 58"/>
          <p:cNvSpPr/>
          <p:nvPr/>
        </p:nvSpPr>
        <p:spPr>
          <a:xfrm>
            <a:off x="90360" y="4149720"/>
            <a:ext cx="14760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Прямая соединительная линия 59"/>
          <p:cNvSpPr/>
          <p:nvPr/>
        </p:nvSpPr>
        <p:spPr>
          <a:xfrm>
            <a:off x="85680" y="4941720"/>
            <a:ext cx="15552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Прямая соединительная линия 60"/>
          <p:cNvSpPr/>
          <p:nvPr/>
        </p:nvSpPr>
        <p:spPr>
          <a:xfrm>
            <a:off x="82440" y="5746680"/>
            <a:ext cx="15552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Прямая соединительная линия 61"/>
          <p:cNvSpPr/>
          <p:nvPr/>
        </p:nvSpPr>
        <p:spPr>
          <a:xfrm>
            <a:off x="2257560" y="2252520"/>
            <a:ext cx="0" cy="407376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Прямая соединительная линия 62"/>
          <p:cNvSpPr/>
          <p:nvPr/>
        </p:nvSpPr>
        <p:spPr>
          <a:xfrm>
            <a:off x="4284720" y="2244600"/>
            <a:ext cx="0" cy="391176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Прямая соединительная линия 63"/>
          <p:cNvSpPr/>
          <p:nvPr/>
        </p:nvSpPr>
        <p:spPr>
          <a:xfrm>
            <a:off x="6230880" y="2252520"/>
            <a:ext cx="0" cy="376884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6" name="Прямоугольник с двумя скругленными противолежащими углами 74"/>
          <p:cNvGrpSpPr/>
          <p:nvPr/>
        </p:nvGrpSpPr>
        <p:grpSpPr>
          <a:xfrm>
            <a:off x="6267600" y="5310360"/>
            <a:ext cx="2766960" cy="541080"/>
            <a:chOff x="6267600" y="5310360"/>
            <a:chExt cx="2766960" cy="541080"/>
          </a:xfrm>
        </p:grpSpPr>
        <p:pic>
          <p:nvPicPr>
            <p:cNvPr id="417" name="Прямоугольник с двумя скругленными противолежащими углами 74" descr=""/>
            <p:cNvPicPr/>
            <p:nvPr/>
          </p:nvPicPr>
          <p:blipFill>
            <a:blip r:embed="rId31"/>
            <a:stretch/>
          </p:blipFill>
          <p:spPr>
            <a:xfrm>
              <a:off x="6267600" y="5310360"/>
              <a:ext cx="276696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6389640" y="5405400"/>
              <a:ext cx="25225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Омский городской Совет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19" name="Прямоугольник с двумя скругленными противолежащими углами 75"/>
          <p:cNvGrpSpPr/>
          <p:nvPr/>
        </p:nvGrpSpPr>
        <p:grpSpPr>
          <a:xfrm>
            <a:off x="6229440" y="5711760"/>
            <a:ext cx="2792160" cy="731880"/>
            <a:chOff x="6229440" y="5711760"/>
            <a:chExt cx="2792160" cy="731880"/>
          </a:xfrm>
        </p:grpSpPr>
        <p:pic>
          <p:nvPicPr>
            <p:cNvPr id="420" name="Прямоугольник с двумя скругленными противолежащими углами 75" descr=""/>
            <p:cNvPicPr/>
            <p:nvPr/>
          </p:nvPicPr>
          <p:blipFill>
            <a:blip r:embed="rId32"/>
            <a:stretch/>
          </p:blipFill>
          <p:spPr>
            <a:xfrm>
              <a:off x="6229440" y="5711760"/>
              <a:ext cx="27921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6372360" y="5829480"/>
              <a:ext cx="2506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Омская городская избирательная комиссия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22" name="Прямоугольник с двумя скругленными противолежащими углами 76"/>
          <p:cNvGrpSpPr/>
          <p:nvPr/>
        </p:nvGrpSpPr>
        <p:grpSpPr>
          <a:xfrm>
            <a:off x="6254640" y="4943520"/>
            <a:ext cx="2779920" cy="500040"/>
            <a:chOff x="6254640" y="4943520"/>
            <a:chExt cx="2779920" cy="500040"/>
          </a:xfrm>
        </p:grpSpPr>
        <p:pic>
          <p:nvPicPr>
            <p:cNvPr id="423" name="Прямоугольник с двумя скругленными противолежащими углами 76" descr=""/>
            <p:cNvPicPr/>
            <p:nvPr/>
          </p:nvPicPr>
          <p:blipFill>
            <a:blip r:embed="rId33"/>
            <a:stretch/>
          </p:blipFill>
          <p:spPr>
            <a:xfrm>
              <a:off x="6254640" y="4943520"/>
              <a:ext cx="277992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2360" y="5033880"/>
              <a:ext cx="25430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Контрольно-счетная палат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25" name="Прямая соединительная линия 77"/>
          <p:cNvSpPr/>
          <p:nvPr/>
        </p:nvSpPr>
        <p:spPr>
          <a:xfrm>
            <a:off x="6232680" y="4230720"/>
            <a:ext cx="15552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Прямая соединительная линия 78"/>
          <p:cNvSpPr/>
          <p:nvPr/>
        </p:nvSpPr>
        <p:spPr>
          <a:xfrm>
            <a:off x="2257560" y="2506680"/>
            <a:ext cx="16488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Прямая соединительная линия 79"/>
          <p:cNvSpPr/>
          <p:nvPr/>
        </p:nvSpPr>
        <p:spPr>
          <a:xfrm>
            <a:off x="2257560" y="3460680"/>
            <a:ext cx="16488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Прямая соединительная линия 80"/>
          <p:cNvSpPr/>
          <p:nvPr/>
        </p:nvSpPr>
        <p:spPr>
          <a:xfrm>
            <a:off x="2257560" y="4559400"/>
            <a:ext cx="16488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Прямая соединительная линия 81"/>
          <p:cNvSpPr/>
          <p:nvPr/>
        </p:nvSpPr>
        <p:spPr>
          <a:xfrm>
            <a:off x="2246400" y="5532480"/>
            <a:ext cx="16344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Прямая соединительная линия 82"/>
          <p:cNvSpPr/>
          <p:nvPr/>
        </p:nvSpPr>
        <p:spPr>
          <a:xfrm>
            <a:off x="2257560" y="6326280"/>
            <a:ext cx="12384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Прямая соединительная линия 84"/>
          <p:cNvSpPr/>
          <p:nvPr/>
        </p:nvSpPr>
        <p:spPr>
          <a:xfrm>
            <a:off x="4284720" y="2498760"/>
            <a:ext cx="16344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Прямая соединительная линия 85"/>
          <p:cNvSpPr/>
          <p:nvPr/>
        </p:nvSpPr>
        <p:spPr>
          <a:xfrm>
            <a:off x="4284720" y="3360600"/>
            <a:ext cx="16344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Прямая соединительная линия 86"/>
          <p:cNvSpPr/>
          <p:nvPr/>
        </p:nvSpPr>
        <p:spPr>
          <a:xfrm>
            <a:off x="4284720" y="4508640"/>
            <a:ext cx="16344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Прямая соединительная линия 87"/>
          <p:cNvSpPr/>
          <p:nvPr/>
        </p:nvSpPr>
        <p:spPr>
          <a:xfrm>
            <a:off x="4284720" y="5313240"/>
            <a:ext cx="16344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Прямая соединительная линия 89"/>
          <p:cNvSpPr/>
          <p:nvPr/>
        </p:nvSpPr>
        <p:spPr>
          <a:xfrm>
            <a:off x="4276800" y="6162840"/>
            <a:ext cx="16488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Прямая соединительная линия 91"/>
          <p:cNvSpPr/>
          <p:nvPr/>
        </p:nvSpPr>
        <p:spPr>
          <a:xfrm>
            <a:off x="6238800" y="2498760"/>
            <a:ext cx="15732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Прямая соединительная линия 92"/>
          <p:cNvSpPr/>
          <p:nvPr/>
        </p:nvSpPr>
        <p:spPr>
          <a:xfrm>
            <a:off x="6238800" y="3373560"/>
            <a:ext cx="15732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Прямая соединительная линия 93"/>
          <p:cNvSpPr/>
          <p:nvPr/>
        </p:nvSpPr>
        <p:spPr>
          <a:xfrm>
            <a:off x="6229440" y="5145120"/>
            <a:ext cx="15552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Прямая соединительная линия 94"/>
          <p:cNvSpPr/>
          <p:nvPr/>
        </p:nvSpPr>
        <p:spPr>
          <a:xfrm>
            <a:off x="6238800" y="5554800"/>
            <a:ext cx="15732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Прямая соединительная линия 95"/>
          <p:cNvSpPr/>
          <p:nvPr/>
        </p:nvSpPr>
        <p:spPr>
          <a:xfrm>
            <a:off x="6219720" y="6021360"/>
            <a:ext cx="155520" cy="0"/>
          </a:xfrm>
          <a:prstGeom prst="line">
            <a:avLst/>
          </a:prstGeom>
          <a:ln w="1908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0:06:15Z</dcterms:created>
  <dc:creator>Галина В. Кузлякина</dc:creator>
  <dc:description/>
  <dc:language>en-US</dc:language>
  <cp:lastModifiedBy>kschernaya</cp:lastModifiedBy>
  <dcterms:modified xsi:type="dcterms:W3CDTF">2013-06-20T08:53:25Z</dcterms:modified>
  <cp:revision>30</cp:revision>
  <dc:subject/>
  <dc:title>Участники бюджетного процесса</dc:title>
</cp:coreProperties>
</file>